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D7DD-ABD3-44D6-B33D-10E232547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8C4B-CBDA-4463-A52A-CBDF21FF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60F4-2765-44D9-BF67-EFACB513D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1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1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B1C1-CA74-41BA-8F7C-C627BD69F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1E94-7254-44A9-A91A-DCC4657FA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6563-8909-43B6-8BDE-519CEF96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3CF24-6C8E-48CF-9CC3-69BE1C25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97B08-DADE-4750-AC23-04F25524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AA496-B890-49E7-8F14-B71BB3BD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09320" y="1294920"/>
            <a:ext cx="54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C247-6731-47A3-BDCA-48636CD6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7DA5-7DA9-463E-B8B6-9F3C5145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B34E-0FEE-4FF5-9DCA-6CDE4B82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2F9E-3DA6-4462-8BFC-6CF8074E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DF1B2-402D-430F-B28B-95F411AA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079EA-2CA4-465E-9836-052952C0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2684-789E-4EED-AE2D-E6921DD13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181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181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272D-9415-4ADA-A513-98565BB07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AA48-9C38-49D0-A7F6-91E19B52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9B9A-42AE-439F-A785-F9453A4B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1A06-DD97-45B3-818C-14826E4F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09320" y="1294920"/>
            <a:ext cx="54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46E1-35A0-4C13-B2E3-A94A86A7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B615-100A-4EC9-A29A-214E83D4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6217-D2B0-4908-816B-A9045B0A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64E1-9D50-40D0-BCCD-476F6BD3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CD0D-68F0-420D-B9CC-ACEF3B95A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E1D3-78B8-4894-9C21-7F280AF79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medicinehealth.com/bacterial_pneumonia/page7_em.htm" TargetMode="External"/><Relationship Id="rId3" Type="http://schemas.openxmlformats.org/officeDocument/2006/relationships/hyperlink" Target="http://www.emedicinehealth.com/bacterial_pneumonia/page9_em.htm" TargetMode="External"/><Relationship Id="rId4" Type="http://schemas.openxmlformats.org/officeDocument/2006/relationships/hyperlink" Target="http://www.emedicinehealth.com/bacterial_pneumonia/page2_em.htm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520" y="11430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Arial"/>
              </a:rPr>
              <a:t>Pneumon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600200" y="2819520"/>
            <a:ext cx="6578640" cy="3632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828440" y="2971440"/>
            <a:ext cx="67057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neumonia fills the lung’s alveoli with fluid which keeps the oxygen from reaching the bloodstrea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62320" y="160020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What is Pneumoni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7400" y="99036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Symp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ypical pneumonia comes on very quickl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usually have a high fever and shaking chil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you cough, your sputum is yellow or brow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may have chest pain, which is usually worse with breathing or coughing. Your chest also may be sore when you touch or press i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may be very short of breath, especially if you have any chronic lung conditions such as asthma or emphyse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cause chest pain also can be a sign of other serious medical conditions, do not try to diagnose yoursel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33720" y="99036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Treat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676520" y="1980720"/>
            <a:ext cx="7162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re diagnosed with bacterial pneumonia you will have to take antibiotic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inking lots of nonalcoholic fluids help you feel better and recover fas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cause coughing helps clear infection out of your lungs, your doctor may recommend that you not use a cough suppress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must avoid cigarette or other tobacco smoke while you recover from pneumonia. Smoking hurts your body's ability to fight infection and makes your healing process take a lot lon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your pneumonia is very severe, you may need a breathing tube in your windpipe so that a machine can do the work of breathing for yo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How To Prevent Pneumonia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neumonia  can be prevented by taking certain vaccine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neumovax is an immunization to prev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eptococcus pneumonia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fection. You should get this shot if you are older than 65 years, or i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spleen was removed for any reason. You should also get this shot if your spleen doesn't work right, for instance, if you have sickle cell dis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MacintoshHD:Users:student:Movies:Pneumonia.mov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Bibliograph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http://www.emedicinehealth.com/bacterial_pneumonia/page7_em.ht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  <a:hlinkClick r:id="rId3"/>
              </a:rPr>
              <a:t>http://www.emedicinehealth.com/bacterial_pneumonia/page9_em.ht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  <a:hlinkClick r:id="rId4"/>
              </a:rPr>
              <a:t>http://www.emedicinehealth.com/bacterial_pneumonia/page2_em.ht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8T16:39:43Z</dcterms:created>
  <dc:creator>NYCDOE</dc:creator>
  <dc:description/>
  <dc:language>en-US</dc:language>
  <cp:lastModifiedBy>NYCDOE</cp:lastModifiedBy>
  <dcterms:modified xsi:type="dcterms:W3CDTF">2007-06-21T14:39:05Z</dcterms:modified>
  <cp:revision>8</cp:revision>
  <dc:subject/>
  <dc:title>Pneumonia</dc:title>
</cp:coreProperties>
</file>